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887-8D91-4843-9C30-226EE5A6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D6D-9BF7-44FE-9857-8DF729E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925-24DA-43BA-B497-DA92719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03C-DC9E-4E9B-A2B5-A4630AF0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AF2-1922-4E9B-B53A-9DF84E0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118-6827-4E76-B67A-F4CBB79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B58-4097-482E-922F-51CFFD2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F08-C4C4-4235-A516-AA18C81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216-5A87-490C-8B16-9C6C76FE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7EE-0940-4227-A6EF-C96883F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75E-21EB-4B15-9712-5422085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29B-805A-4039-888F-F7971ED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BA0-8E05-42B2-A584-4D2DAFBCA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ider Addition Tabletop Exercise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7:35Z</dcterms:modified>
  <cp:revision>30</cp:revision>
  <dc:subject/>
  <dc:title>Certificate Samples</dc:title>
</cp:coreProperties>
</file>