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A8D2-4C38-4F94-905F-65EFB052D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E3D7-500D-494E-B715-FD8DAFF5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27F1-DFE9-46D0-9609-AC0D67431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499C-4823-4133-8AB7-CA2B481B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34B7-ECFB-49CC-AB19-88458BF2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67E7-3C5C-4518-BAF8-034CF8B0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5B9C-1895-421D-812D-0C8EB0AC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D76B-5558-4F60-BB3F-468004F8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0E86-DEEC-4FD1-BD60-91D2BA7C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9ED2-39CB-4BC7-8899-F10146B3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A5ED-3590-4456-ADEC-98DECF43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7DA1-CF38-48DB-9A63-03994727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BC10-E818-457B-848B-354A2AC988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 recognition of attendance at th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sider Addition Tabletop Exercise</a:t>
            </a:r>
            <a:br>
              <a:rPr sz="24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is certificate is presented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resented by:  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ate:  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88920" y="130320"/>
            <a:ext cx="8953560" cy="6715080"/>
          </a:xfrm>
          <a:prstGeom prst="rect">
            <a:avLst/>
          </a:prstGeom>
          <a:noFill/>
          <a:ln cap="sq" w="254160">
            <a:solidFill>
              <a:srgbClr val="5a85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534960" y="503280"/>
            <a:ext cx="8061480" cy="5968800"/>
          </a:xfrm>
          <a:prstGeom prst="rect">
            <a:avLst/>
          </a:prstGeom>
          <a:noFill/>
          <a:ln cap="sq" w="127080">
            <a:solidFill>
              <a:srgbClr val="739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Up Ribbon 6"/>
          <p:cNvSpPr/>
          <p:nvPr/>
        </p:nvSpPr>
        <p:spPr>
          <a:xfrm>
            <a:off x="685800" y="5486400"/>
            <a:ext cx="7772400" cy="762120"/>
          </a:xfrm>
          <a:custGeom>
            <a:avLst/>
            <a:gdLst>
              <a:gd name="textAreaLeft" fmla="*/ 1942920 w 7772400"/>
              <a:gd name="textAreaRight" fmla="*/ 5829480 w 7772400"/>
              <a:gd name="textAreaTop" fmla="*/ 0 h 762120"/>
              <a:gd name="textAreaBottom" fmla="*/ 635400 h 76212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2:20:56Z</dcterms:created>
  <dc:creator>JoaBenn</dc:creator>
  <dc:description/>
  <dc:language>en-US</dc:language>
  <cp:lastModifiedBy>Cathy.Ghaleb</cp:lastModifiedBy>
  <dcterms:modified xsi:type="dcterms:W3CDTF">2011-06-21T15:27:35Z</dcterms:modified>
  <cp:revision>30</cp:revision>
  <dc:subject/>
  <dc:title>Certificate Samples</dc:title>
</cp:coreProperties>
</file>