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406-A5F4-40DD-8143-2A3ECF56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781-050F-4DD7-B41A-854E7D6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998-0AD8-48F1-8FD5-3D14CAA5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66E-9CA1-4B03-BE37-4D412B5D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A84-D2EC-4C36-8EEE-05011974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6A4-C8D5-4537-B50F-6B96A594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46D-3B9E-4BD0-9C52-4BE837B5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7E4-6F61-473D-AA13-2FD261BE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8CD-7A43-48E4-B1FA-04C040D9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D3D-E1B4-4414-9D16-24E404E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9CB-6D91-4288-88FC-A15AB2A7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7C1-E048-448B-AF32-B13B1121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D8D6-96FB-4AEB-A5CF-A9D19C2E3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ighplains Harbinger Tabletop Exercis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5:08Z</dcterms:modified>
  <cp:revision>30</cp:revision>
  <dc:subject/>
  <dc:title>Certificate Samples</dc:title>
</cp:coreProperties>
</file>