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BFD-8C3D-4C78-8F5D-E83B32EF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5A9-98C5-4412-92AF-7125C81E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5FA-1299-491F-95C8-2F04D8FC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536-007B-476B-B2AD-4A267669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C4D-E973-4FBB-8882-2902A034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462-00BD-4C9E-8A37-7C9CEC00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7C3-DFF9-471D-84B3-6C9AC48E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940-500B-43AE-BCFA-AE7CEFB1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561-1C4B-4064-809F-4322C290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CFF-2C91-46BC-BA34-89325877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E9F-8B80-406D-A418-A09B5C4B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30D-9EC5-42E0-957F-7527C83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C83D-B9E2-4F73-B793-AAF6AD01E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ighplains Harbinger Tabletop Exercis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5:08Z</dcterms:modified>
  <cp:revision>30</cp:revision>
  <dc:subject/>
  <dc:title>Certificate Samples</dc:title>
</cp:coreProperties>
</file>