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F33C-8B4A-41B0-81FF-53CDE6BC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C3B1-923C-4020-848E-1CDE247B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C54E-3C74-4AD4-A962-89885795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C0C4-212C-486D-81B4-F9C112B2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0303-C8F2-4A55-A5A8-D4FAF38B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EE66-52EA-43AC-B0C5-7CE81933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BFBC-9B8E-466B-991E-A1BB6AF4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5099-69D4-49B0-BE6B-0CA0E3DE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D6AC-70B6-4CB1-B4B3-0B5E47F6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68CF-A45C-4F59-BCE5-BC961500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45A8-E7D0-47D2-8BDB-323676EF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CD2F-8CF0-490E-8E51-3ED832B7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8039-9D65-4403-81AA-E891AD0B8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 recognition of attendance at t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lted Woes Tabletop Exercise</a:t>
            </a:r>
            <a:br>
              <a:rPr sz="14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is certificate is presented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esented by:  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ate:  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88920" y="130320"/>
            <a:ext cx="8953560" cy="6715080"/>
          </a:xfrm>
          <a:prstGeom prst="rect">
            <a:avLst/>
          </a:prstGeom>
          <a:noFill/>
          <a:ln cap="sq" w="254160">
            <a:solidFill>
              <a:srgbClr val="5a85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34960" y="503280"/>
            <a:ext cx="8061480" cy="5968800"/>
          </a:xfrm>
          <a:prstGeom prst="rect">
            <a:avLst/>
          </a:prstGeom>
          <a:noFill/>
          <a:ln cap="sq" w="127080">
            <a:solidFill>
              <a:srgbClr val="73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Up Ribbon 6"/>
          <p:cNvSpPr/>
          <p:nvPr/>
        </p:nvSpPr>
        <p:spPr>
          <a:xfrm>
            <a:off x="685800" y="5486400"/>
            <a:ext cx="7772400" cy="762120"/>
          </a:xfrm>
          <a:custGeom>
            <a:avLst/>
            <a:gdLst>
              <a:gd name="textAreaLeft" fmla="*/ 1942920 w 7772400"/>
              <a:gd name="textAreaRight" fmla="*/ 5829480 w 7772400"/>
              <a:gd name="textAreaTop" fmla="*/ 0 h 762120"/>
              <a:gd name="textAreaBottom" fmla="*/ 635400 h 7621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2:20:56Z</dcterms:created>
  <dc:creator>JoaBenn</dc:creator>
  <dc:description/>
  <dc:language>en-US</dc:language>
  <cp:lastModifiedBy>Cathy.Ghaleb</cp:lastModifiedBy>
  <dcterms:modified xsi:type="dcterms:W3CDTF">2011-06-21T15:32:00Z</dcterms:modified>
  <cp:revision>30</cp:revision>
  <dc:subject/>
  <dc:title>Certificate Samples</dc:title>
</cp:coreProperties>
</file>