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793-DB4B-484C-AEC4-5DF69875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918-0AEE-4691-895F-6FB5146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D41-71AF-4C55-8B6B-33C5ACA7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5D4-4969-424F-9779-4FFC1F7E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C98-BB6D-478A-93F7-3065E16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DF8-CBD6-4C58-9045-544DD08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625-5E25-4D71-8F84-84002FF7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A85-3782-494B-89A1-603F97D1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130-C8A1-411F-9D65-D0997CE0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311-3247-4C5F-BC82-5C86229F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2E4-B4CA-4B56-962E-92A4C4D1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5D7-5F3F-4630-8572-5F8109B4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5596-1702-4D44-89EF-361F02EDC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ted Woes Tabletop Exercise</a:t>
            </a:r>
            <a:br>
              <a:rPr sz="14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2:00Z</dcterms:modified>
  <cp:revision>30</cp:revision>
  <dc:subject/>
  <dc:title>Certificate Samples</dc:title>
</cp:coreProperties>
</file>