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B09-AA6E-41A6-BD9D-610F204B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50E-6280-45AE-B7B2-F71A53FD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7E5-EADD-452A-A401-6FBB227B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889-A0C9-4D0E-9509-88F29B82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AC2-5D7A-4693-8D97-5FF48772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1E8-7F1D-445C-AC7F-6F44BD9D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72D-AAB1-418E-8919-E90F9C3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009-4919-4806-B91A-EAF88A62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4DA-42F5-496E-BE32-DB9B56CD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5A6-9F3C-4293-8314-62664B7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C17-CB87-41D1-AF38-E0701ED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BE1-1894-4416-856C-83781E3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264-CD40-4365-A3D5-58B213F02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althy Situation Tabletop Exercis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0:53Z</dcterms:modified>
  <cp:revision>29</cp:revision>
  <dc:subject/>
  <dc:title>Certificate Samples</dc:title>
</cp:coreProperties>
</file>