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611-C7D6-4C9F-A1A1-1714EC90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AE1-DA9E-4A37-A41F-AF23052A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FA6-20E8-45D7-B68E-B534013C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0F8-F7A4-4F9B-906C-43834F44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964-6A1B-4499-8455-0B2BE923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8DE-7572-4888-B6EA-88D6B478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FED-774B-41D7-BEE3-A1F805C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789-74D4-4B93-90DA-71857143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A69-818E-4E5E-B33B-74D2F3E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2916-B96D-4936-A785-B02360A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D06-8CA6-43C5-B7A8-AAD3236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C8F-5C42-4ECA-B780-6844E9D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7D87-EDB8-44CD-92E2-6B1F490D4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ealthy Situation Tabletop Exercis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0:53Z</dcterms:modified>
  <cp:revision>29</cp:revision>
  <dc:subject/>
  <dc:title>Certificate Samples</dc:title>
</cp:coreProperties>
</file>