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84B-6E64-4A96-9A8B-8B71C674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E50-7177-4975-B70A-94C01B03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E7C-BA3C-4D92-8198-85E9EBBC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0C3-5F5D-42EC-A803-89322BC8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B85-F3D4-4B72-9981-D18EF8B5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E55-CB0B-4BEC-A044-4412FEAB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B69-3122-4C8D-9605-F07F3343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12E-8686-4D50-AFD3-0D46088B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433-2891-4F0D-822C-54523ED1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54E-B684-426B-B6CA-80A0311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A92-59F7-439E-8B5C-4B89ABE5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A16-E59E-4EDA-831C-1AB9A81C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89EE-6B3A-4BCD-AEC2-07C44D711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Sweet It Is(n’t) Tabletop Exercise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28:57Z</dcterms:modified>
  <cp:revision>29</cp:revision>
  <dc:subject/>
  <dc:title>Certificate Samples</dc:title>
</cp:coreProperties>
</file>