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0F5-6D52-4690-8C84-7E9C4F0B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6FB-2A71-4ADE-87D1-4EE50FB8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155-5D2E-43C2-AB47-3154EBF8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0BD-D8EA-4D36-9C0F-83077E3E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1A4-848C-4509-98A2-AAEB9B03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C63-7528-4110-AC26-89D72AB6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F96-34CE-454B-BD71-1A2029DE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773-1C81-4550-B747-C6EA1F03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84D-2B6C-4469-97D2-EB6116F6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904-39D8-476A-841F-65D8B0BC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205-B7F5-4EBC-B1C6-ED3B21F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72A-AB33-4216-86E3-7D225F89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E5E7-8894-4736-8BCF-9848B0B3A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Sweet It Is(n’t) Tabletop Exercise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8:57Z</dcterms:modified>
  <cp:revision>29</cp:revision>
  <dc:subject/>
  <dc:title>Certificate Samples</dc:title>
</cp:coreProperties>
</file>